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285-1426-4E04-8E7B-EC986179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30F-4093-48A1-A63C-DF567562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F4A85-35E0-437C-9D04-79C0178B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E3DC3-CC4F-4526-86A6-9B49023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D249C-BA9D-4EF0-AE97-E21CB4EF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D8107-0C02-4979-A812-6093033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19FC1-964A-4DB7-8F91-0822E8F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D1167-1521-4DB7-8A7E-42B6018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C166D-5BFB-41FA-BEAE-7DC14FC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876D-C16D-4573-852B-F6712B25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E04D2-0B70-42B1-92D3-D12435DC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D9C-159F-4EC7-8F14-4F3D83CF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816-88BC-4481-9350-233AFAAF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BEE-6884-494C-AAFC-1005771B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50A8-BBA6-44ED-9CD0-9B4997C8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9EE-E375-4645-930B-944E81A4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ED3-E387-4B9A-94F8-6B1C322A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E95-2D20-4DF9-93C2-B743F65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CE63-3070-46CE-B7B5-00487AA8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99E-3588-4DE5-A238-EB4B22F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FB9-2B7F-4667-B96A-77741D3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77A-02A8-4A66-BCEB-4A8A4420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7295-062B-45ED-950D-867BDA08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391-82B8-45B2-A782-8E9CA56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6A29-D29A-48BA-9229-02752819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FA86-CE18-43F4-B9E0-C51E61D0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7870-2513-4FF5-B1F1-E204F257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EDD7-C21B-4E14-8B25-58837D1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811F-8DA2-451A-ADF5-88F29E4C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C292-48D5-4D27-AF0D-4138C077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5369-C210-42E7-A46E-D9FC049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193-85A4-435B-BF92-0F63801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F921-641F-414C-850C-A39D850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86C0-A906-4909-9294-911095A4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ED521-9693-41DD-B339-269E351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82FE-A2F0-40A4-BEE6-943FB41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6990-9F77-482A-A783-14FA5D74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3813-D215-4E24-9785-5E612890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888D-D2BA-409A-9301-4EDFF6F3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2A5A-F654-4C44-B0CC-3006333D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4E5A-3820-4551-B50B-16D0D57C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026A-5071-4A9B-B02F-EA16DB55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885-6546-42E0-8DF0-9CC2131E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0413-A749-4FB8-85A6-34C387A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0DDB-6AA2-4C1C-87C0-D0B6FD58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DC4C-6AD4-47D4-86DA-8A030EC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534E-30BF-4D68-91E2-9CC6F58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4DFC-F6A5-431E-947D-AED6F756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E2CA3-113D-4460-AF55-ECBA350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0781-EC5A-4355-BBE7-9873ADD7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645F-D204-434E-9D30-DB6A5381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05AF-0663-41DF-ACA8-D87AA59B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0F008-B868-4F1C-B1C7-5FE043D0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9CF-560E-498F-8B80-6BFA33BF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286F-E2A5-4BAD-9378-8DDFEC5A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6DB8-F239-4DD5-BD7B-1035D45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FCA05-D0E2-4B6F-91C7-695B4F5C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A1F0-7D37-428A-AB53-2A48C41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213F-6FC9-4626-A186-BAC497E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1CF2-016A-4792-BE50-72DE27FB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B720-C2E7-49EC-949D-24ACF069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8AEE-32E6-4958-BFD4-C83AE17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FA98-249C-4D5D-AD58-5FC0997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FADE-FAF9-4CF1-8E85-0441B0F7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598-A08B-47A8-80CB-A322DF2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BEC6C-2C61-4E26-90AC-CC7A56A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28DF-8A26-40F7-A1CE-DBFD3B34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6F625-47AA-4C5C-A65A-968A7BDD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BF4F-EE47-4DAD-938B-08D716EB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F221-0FF6-4E67-8895-F0F3348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CC59-0370-4856-AFFE-36FF205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6005-B08C-4043-ABF4-01AC0146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60CD-2CA6-48EA-9813-5CB5D25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6AD3-7460-4915-97B6-98E46CE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38186-72E6-4A17-BEF0-9AF1AFA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702-D5C2-4BF7-8BF4-0F3629E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3285-D9E2-49C7-9220-182FCF89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A6D11-6657-445B-86B7-981EA201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6D18-6980-4959-B520-232584E5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489A1-E099-4E4F-B542-9ADF0AA5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F521-6A78-4028-80A8-B412BE81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A110-24DE-4B7C-B86C-3BC65C1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6094A-8F10-4D73-AB98-46CBC7A9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39B9-54A7-45EB-9CCC-56B0621A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A8DA-8163-4060-ADB5-D573B400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6D37-0472-4D72-A1EA-72331F3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90B-79ED-4072-863B-DB17B320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532C-3B56-4A93-8714-24F30B9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63032-171B-4EB8-BE83-A89FC2D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6D0E-5944-4DD7-9BF0-3AE07267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D7493-C286-4625-A999-28271BAD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0D1E-241E-44C1-B944-B8E02AF8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A9C3-3DCB-4BFC-8A14-12A4B9A1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D09D7-C3EB-4507-9AF7-F70BC40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C8789-CC61-4E56-987E-232743C5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4B24-4734-4D87-ABA3-A012402E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311F8-19BB-4231-B583-20CCD738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DAE-BAC1-4E43-B0E8-DD30CF6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2E415-BB98-4544-969E-B233642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BF110-1258-420F-B5C4-D759061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38A1-F6FD-4571-8291-47749850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CDD2-27AB-48BC-BCF5-496953B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7BB2-4C48-4414-B71A-7BDB092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40A58-5879-4F90-807F-DDD316D6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B7887-C02E-4F7B-8AD0-B6DED64A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E0E3A-A536-4D00-9333-F87ACED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9E578-C6BD-48ED-A812-F082A0B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D81EF-2E27-4696-B320-ED95BFD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95CD-14CC-4D42-970F-3A5E9BC7B1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286-F6EB-45CE-BCE8-0205CA1470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80F4-A770-415C-A054-A754F10FAA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344-F87C-4481-93D2-F9B5263C1D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17E-F3A1-427A-A1CA-FB84B16DA7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CFD2-C382-4C88-9CF3-AFA48A94FC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3D5-7A6C-410C-9D40-6EDAE9DFF8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CE42-7D43-4141-A8A5-48329D5AFF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3095-E7CE-49F5-AA00-16C364D16F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468360" y="1989000"/>
            <a:ext cx="813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Микроби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Деловая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620280"/>
            <a:ext cx="86868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з проглоченных яиц в ……. человека, выходят личинки, которые проникают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….. систему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И с током крови через правую …………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легкие. Здесь личинки, разрывая капилляры, оказываются в просвете ….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 Попадая через бронхи вновь в ….., они заглатываются со слюной и в кишечнике, спустя ……, превращаются во взрослых аскарид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 Аскариды являются возбудителем ………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При легочной стадии аскаридоза, у больных появляется ………………………………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83664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При кишечной стадии, когда аскариды паразитируют уже в кишечнике, снижается ….., отмечается ……………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ольных беспокоят ………, плохой сон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2. Аскариды могут стать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чиной ……… кишечника, иногда могут заползать в …….., что может привести к летальному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3. Острица-  небольшая нематода … цвета, длиной … 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4. Хвостовой конец тела у самок ... У самцов хвостовой конец…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5. Острицы обитают в … тонкого кишечника и в толстом   кишечнике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6. Передним концом они прикрепляются к стенке ... Зрелые самки выползают через задний проход …, на … складках откладывают яйца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7. Яйца остриц при расчесывании попадают под …, затем на игрушки, заносятся в ... В кишечнике из яиц выходят … и развиваются во взрослую стадию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0636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веты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Кишках; раздельнополая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20-40 см;   15-25 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изогнут в виде крючк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00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чвы; рот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кишечнике; венозную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оловинку сердца; альвеол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глотку; 2,5-3 месяц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аскаридоз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661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кашель, боль в груди, повышение температуры тела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аппетит; тошнота, боли в животе, неустойчивый стул;  головные боли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2. непроходимости ;в дыхательные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3.острица белого цвета, длиной 0, 5-1  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4. заострен; закручен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5.в  нижнем отделе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6. ночь; на перианальных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17. под ногти, в рот; личинки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0" y="1143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7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асс трематоды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17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В тексте найти ошибки , пропуски: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Тело описторха  грушевидное, длиной до 3 см.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В передней части тела имеются присоски, в задней - три крупных четырех – и пятилопастных семенника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Описторхоз - это одно из самых серьезных заболеваний человека, связанное с употреблением  неправильно обработанной рыбы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Поражает  желудок, легкие, желчный пузырь и желчевыводящие пути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Яйца гельминта, выделяемые с фекалиями, при попадании в воду заглатываются моллюсками, в теле которых развиваются  личинки….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Развитие их продолжается менее 6ти месяцев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Затем церкарии выходят в воду, активно проникают в тело….. рыб, где в мышцах превращаются в метацеркарии, покрытые оболочкой.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Человек заражается при употреблении в пищу….. рыбы.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В кишечнике человека личинки освобождаются от оболочек, проникают желудок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Через месяц паразиты достигают половой зрелости и начинают выделять…. В организме человека кошачий(сибирский) сосальщик может паразитировать много лет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Острая фаза описторхоза характеризуется:….. увеличением количества лейкоцитов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1897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21384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веты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1.до 1 см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2.ДВЕ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3. коварных паразитарных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4. поджелудочную железу, печень, желчный пузырь и желчевыводящие пути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5. церкарии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6. 2х месяцев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7. карповых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8.малосольной, подвергнутой недостаточной термической обработке или сырой (строганина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9. в печень, желчный пузырь и поджелудочную железу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10. яйца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11. повышением температуры тела, 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болями в мышцах и суставах, рвотой, поносом, болезненностью и     увеличением печени,  аллергическими высыпаниями на коже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3" descr=""/>
          <p:cNvPicPr/>
          <p:nvPr/>
        </p:nvPicPr>
        <p:blipFill>
          <a:blip r:embed="rId2"/>
          <a:stretch/>
        </p:blipFill>
        <p:spPr>
          <a:xfrm>
            <a:off x="1285920" y="1500120"/>
            <a:ext cx="728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-18108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50920" y="260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Print"/>
              </a:rPr>
              <a:t>Задание пер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1000080" y="12168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лан ответа по теме «Введение в паразитологию» и рассказать по пла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12" descr="https://st3.depositphotos.com/1548395/13304/i/1600/depositphotos_133041932-stock-photo-cartoon-illustration-of-human-parasites.jpg"/>
          <p:cNvPicPr/>
          <p:nvPr/>
        </p:nvPicPr>
        <p:blipFill>
          <a:blip r:embed="rId1"/>
          <a:stretch/>
        </p:blipFill>
        <p:spPr>
          <a:xfrm>
            <a:off x="2706840" y="2419200"/>
            <a:ext cx="380340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Задание втор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5214960" y="6500880"/>
            <a:ext cx="3357720" cy="1429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85840" y="12924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«коварная» муха является переносчиком   простей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рисунков и схем охарактеризовать данное простейшее, используя лекцио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1" descr="http://www.tepid.ru/images/tsetse-1.jpg"/>
          <p:cNvPicPr/>
          <p:nvPr/>
        </p:nvPicPr>
        <p:blipFill>
          <a:blip r:embed="rId1"/>
          <a:stretch/>
        </p:blipFill>
        <p:spPr>
          <a:xfrm>
            <a:off x="928800" y="30002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s://odna-doma.ru/public/8433324d.jpg"/>
          <p:cNvPicPr/>
          <p:nvPr/>
        </p:nvPicPr>
        <p:blipFill>
          <a:blip r:embed="rId2"/>
          <a:stretch/>
        </p:blipFill>
        <p:spPr>
          <a:xfrm>
            <a:off x="4071960" y="3000240"/>
            <a:ext cx="478620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57120" y="28584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Задание тре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571680" y="928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остейшее изображено на рисунке? Дать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7" descr="https://www.friendship.com.ru/kaledoskop/i/13.jpg"/>
          <p:cNvPicPr/>
          <p:nvPr/>
        </p:nvPicPr>
        <p:blipFill>
          <a:blip r:embed="rId1"/>
          <a:srcRect l="0" t="0" r="355" b="14173"/>
          <a:stretch/>
        </p:blipFill>
        <p:spPr>
          <a:xfrm>
            <a:off x="1285920" y="2071800"/>
            <a:ext cx="57862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2857320"/>
            <a:ext cx="8686800" cy="32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 помощью существительных, прилагательных и глаголов  дать характеристику простейшим трихомонадам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ротовая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ишечная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  мочеполовая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ущ-е)       (прилаг-е)           ( глагол)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4" name="Рисунок 10" descr="https://econet.ru/uploads/pictures/315446/content_trihomonada_1__econet_ru.jpg"/>
          <p:cNvPicPr/>
          <p:nvPr/>
        </p:nvPicPr>
        <p:blipFill>
          <a:blip r:embed="rId2"/>
          <a:srcRect l="48258" t="1801" r="2024" b="9354"/>
          <a:stretch/>
        </p:blipFill>
        <p:spPr>
          <a:xfrm>
            <a:off x="3143160" y="1143000"/>
            <a:ext cx="360072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8697960" cy="10540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" descr="http://oglistah.ru/wp-content/uploads/2016/09/prostejshie-paraziti_2.jpg"/>
          <p:cNvPicPr/>
          <p:nvPr/>
        </p:nvPicPr>
        <p:blipFill>
          <a:blip r:embed="rId2"/>
          <a:srcRect l="0" t="0" r="0" b="18742"/>
          <a:stretch/>
        </p:blipFill>
        <p:spPr>
          <a:xfrm>
            <a:off x="1428840" y="2786040"/>
            <a:ext cx="5929200" cy="40719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5"/>
          <p:cNvSpPr/>
          <p:nvPr/>
        </p:nvSpPr>
        <p:spPr>
          <a:xfrm>
            <a:off x="1071720" y="200016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ображен на рисунке, дать характерис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53964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Print"/>
              </a:rPr>
              <a:t>Задание шест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rcRect l="0" t="0" r="28647" b="0"/>
          <a:stretch/>
        </p:blipFill>
        <p:spPr>
          <a:xfrm>
            <a:off x="5286240" y="3286080"/>
            <a:ext cx="2643480" cy="2870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571680" y="3143160"/>
            <a:ext cx="3665520" cy="30718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1714680" y="150012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ьминты(класс цесто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кроссворд и сочинить  стихотвор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98440" y="304920"/>
            <a:ext cx="8699400" cy="29145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04920" y="2143080"/>
            <a:ext cx="86868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5" name="Picture 4" descr="C:\Users\qweq\Desktop\Мебель\Кроватки\slide_7.jpg"/>
          <p:cNvPicPr/>
          <p:nvPr/>
        </p:nvPicPr>
        <p:blipFill>
          <a:blip r:embed="rId2"/>
          <a:srcRect l="0" t="0" r="44376" b="13751"/>
          <a:stretch/>
        </p:blipFill>
        <p:spPr>
          <a:xfrm>
            <a:off x="2643120" y="2786040"/>
            <a:ext cx="3714840" cy="36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1286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Аскарид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зитирует во взрослой стадии в тонких ….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упная …….нематода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Длина самок аскарид - …..см, самцов - …..с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Хвостовой конец самца …………………. 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Одна самка в сутки выделяет до …..тысяч яиц, которые с испражнениями человека попадают  в ….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Из ….. яйца, содержащие зрелую личинку,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огут попасть на овощи, ягоды, с которыми они заносятся в ….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04:25:07Z</dcterms:created>
  <dc:creator>мму</dc:creator>
  <dc:description/>
  <dc:language>en-US</dc:language>
  <cp:lastModifiedBy>qweq</cp:lastModifiedBy>
  <dcterms:modified xsi:type="dcterms:W3CDTF">2020-04-22T17:55:21Z</dcterms:modified>
  <cp:revision>88</cp:revision>
  <dc:subject/>
  <dc:title>Слайд 1</dc:title>
</cp:coreProperties>
</file>